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FA4-FCB0-4CB7-B8C5-67B46154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194-DF78-45B0-AD6D-1A279D89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296-0E56-453C-870F-524B153D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5F3-A213-4A1A-8AF7-E32A6EC0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3FA-9F4F-4D94-BA01-BBD24A41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ACA-FF51-4651-9436-CBCF6986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E27-D3CC-49C2-9744-636908A4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5D2-7117-4D8C-A155-3D33062F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772-72F6-49C2-A0E8-6D35EFC1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C9A-3CB7-4D7E-9AC9-FD62D507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4A3-3278-42B3-B189-0BEE487E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259-A0D4-45A7-B722-CDA7223D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020D-B146-4871-84FA-D7AD975BE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7240"/>
            <a:ext cx="542916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600" y="1027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1360" y="1066680"/>
            <a:ext cx="6084720" cy="381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8600" y="1752480"/>
            <a:ext cx="83059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83908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406440"/>
            <a:ext cx="8991720" cy="1152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114300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14300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1143000"/>
            <a:ext cx="1371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876312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0769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2280" y="166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2832120" cy="31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9600" y="1295280"/>
            <a:ext cx="85248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77240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6:00:42Z</dcterms:created>
  <dc:creator>Graham</dc:creator>
  <dc:description/>
  <dc:language>en-US</dc:language>
  <cp:lastModifiedBy>Graham</cp:lastModifiedBy>
  <dcterms:modified xsi:type="dcterms:W3CDTF">2012-08-08T12:17:49Z</dcterms:modified>
  <cp:revision>3</cp:revision>
  <dc:subject/>
  <dc:title>Slide 1</dc:title>
</cp:coreProperties>
</file>